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10.jpeg" ContentType="image/jpeg"/>
  <Override PartName="/ppt/media/image11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772-0DC4-43B0-881B-CAFEDE48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370-76EB-40A1-B58E-000B4C10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CA4-4935-4C1E-810E-89AC5305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EED-F228-406A-9D84-480218AB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D221-B31D-4FDD-AC8D-596BA2EB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5251-4E57-45DF-8B46-61FEC90B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13ED-47D5-4854-8BD2-24BD48B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1A79-72FE-43F1-94BA-8E42ECD7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408B-3614-4CF9-AFA1-C60CEB07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EC44-1EA4-4B4C-8BA6-D479C5F2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8D70-4C00-41C8-ACFE-16AA84E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9AA-ABA8-4D1E-9F34-BCED0932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ABA1-9011-475B-8CD3-B9EBB918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CF7F-7406-4C45-BB4F-D4CA86BE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E9A2-17E2-4958-B358-43A65DC8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E5B8-8087-4A4E-9EB3-935C8413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48F9-632E-4405-A6C0-B4928A00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51E-DA97-4B87-AF47-B756CD7E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589-1DCB-4129-9135-533DD9EC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9DA1-B223-471F-A15C-B918487C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1E5-C7C9-449E-84DD-A831EA42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902-E28C-46A5-9513-485F75B0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907-A3FB-4357-99F4-20F4F653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5FC-255E-4629-ADFF-8C9A0BFB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34A1-8D19-4859-9B1E-B25213DD429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E4D4-E123-480D-84AA-75591CB06FA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ffice.microsoft.com/pl-pl/assistance/default.aspx" TargetMode="External"/><Relationship Id="rId3" Type="http://schemas.openxmlformats.org/officeDocument/2006/relationships/image" Target="../media/image7.png"/><Relationship Id="rId4" Type="http://schemas.openxmlformats.org/officeDocument/2006/relationships/hyperlink" Target="http://www.fgcu.edu/support/office2000/ppt/tips.html" TargetMode="External"/><Relationship Id="rId5" Type="http://schemas.openxmlformats.org/officeDocument/2006/relationships/hyperlink" Target="http://www.fgcu.edu/support/office2000/ppt/tips.html" TargetMode="External"/><Relationship Id="rId6" Type="http://schemas.openxmlformats.org/officeDocument/2006/relationships/hyperlink" Target="http://www.fgcu.edu/support/office2000/ppt/tips.html" TargetMode="External"/><Relationship Id="rId7" Type="http://schemas.openxmlformats.org/officeDocument/2006/relationships/hyperlink" Target="http://www.fgcu.edu/support/office2000/ppt/tips.html" TargetMode="External"/><Relationship Id="rId8" Type="http://schemas.openxmlformats.org/officeDocument/2006/relationships/hyperlink" Target="http://www.fgcu.edu/support/office2000/ppt/tips.html" TargetMode="External"/><Relationship Id="rId9" Type="http://schemas.openxmlformats.org/officeDocument/2006/relationships/hyperlink" Target="http://www.fgcu.edu/support/office2000/ppt/tips.html" TargetMode="External"/><Relationship Id="rId10" Type="http://schemas.openxmlformats.org/officeDocument/2006/relationships/hyperlink" Target="http://www.fgcu.edu/support/office2000/ppt/tips.html" TargetMode="External"/><Relationship Id="rId11" Type="http://schemas.openxmlformats.org/officeDocument/2006/relationships/hyperlink" Target="http://www.fgcu.edu/support/office2000/ppt/tips.html" TargetMode="External"/><Relationship Id="rId12" Type="http://schemas.openxmlformats.org/officeDocument/2006/relationships/hyperlink" Target="http://www.mtholyoke.edu/lits/csit/documentation/building_webpages/good_design.html" TargetMode="External"/><Relationship Id="rId13" Type="http://schemas.openxmlformats.org/officeDocument/2006/relationships/hyperlink" Target="http://www.mtholyoke.edu/lits/csit/documentation/building_webpages/good_design.html" TargetMode="External"/><Relationship Id="rId14" Type="http://schemas.openxmlformats.org/officeDocument/2006/relationships/hyperlink" Target="http://www.mtholyoke.edu/lits/csit/documentation/building_webpages/good_design.html" TargetMode="External"/><Relationship Id="rId15" Type="http://schemas.openxmlformats.org/officeDocument/2006/relationships/hyperlink" Target="http://www.vulcan.edu.pl/biblioteka/prezentacje/zasady_tworzenia.html" TargetMode="External"/><Relationship Id="rId16" Type="http://schemas.openxmlformats.org/officeDocument/2006/relationships/hyperlink" Target="http://www.vulcan.edu.pl/biblioteka/prezentacje/zasady_tworzenia.html" TargetMode="External"/><Relationship Id="rId17" Type="http://schemas.openxmlformats.org/officeDocument/2006/relationships/hyperlink" Target="http://www.vulcan.edu.pl/biblioteka/prezentacje/zasady_tworzenia.html" TargetMode="External"/><Relationship Id="rId18" Type="http://schemas.openxmlformats.org/officeDocument/2006/relationships/hyperlink" Target="http://www.vulcan.edu.pl/biblioteka/prezentacje/zasady_tworzenia.html" TargetMode="External"/><Relationship Id="rId19" Type="http://schemas.openxmlformats.org/officeDocument/2006/relationships/hyperlink" Target="http://wwwzpt.tele.pw.edu.pl/~andrzej/TP/wyklad/pm1-zas_og.pdf" TargetMode="External"/><Relationship Id="rId20" Type="http://schemas.openxmlformats.org/officeDocument/2006/relationships/hyperlink" Target="http://wwwzpt.tele.pw.edu.pl/~andrzej/TP/wyklad/pm1-zas_og.pdf" TargetMode="External"/><Relationship Id="rId21" Type="http://schemas.openxmlformats.org/officeDocument/2006/relationships/hyperlink" Target="http://wwwzpt.tele.pw.edu.pl/~andrzej/TP/wyklad/pm1-zas_og.pdf" TargetMode="External"/><Relationship Id="rId22" Type="http://schemas.openxmlformats.org/officeDocument/2006/relationships/hyperlink" Target="http://wwwzpt.tele.pw.edu.pl/~andrzej/TP/wyklad/pm1-zas_og.pdf" TargetMode="External"/><Relationship Id="rId23" Type="http://schemas.openxmlformats.org/officeDocument/2006/relationships/hyperlink" Target="http://wwwzpt.tele.pw.edu.pl/~andrzej/TP/wyklad/pm1-zas_og.pdf" TargetMode="External"/><Relationship Id="rId24" Type="http://schemas.openxmlformats.org/officeDocument/2006/relationships/hyperlink" Target="http://office.microsoft.com/pl-pl/assistance/default.aspx" TargetMode="External"/><Relationship Id="rId2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800" spc="-1" strike="noStrike">
                <a:solidFill>
                  <a:srgbClr val="ffffff"/>
                </a:solidFill>
                <a:latin typeface="Arial"/>
              </a:rPr>
              <a:t>Zasady tworzenia dobrych</a:t>
            </a:r>
            <a:br>
              <a:rPr sz="4800"/>
            </a:br>
            <a:r>
              <a:rPr b="0" i="1" lang="pl-PL" sz="4800" spc="-1" strike="noStrike">
                <a:solidFill>
                  <a:srgbClr val="ffffff"/>
                </a:solidFill>
                <a:latin typeface="Arial"/>
              </a:rPr>
              <a:t> prezentacji i pokaz możliwości            MSPower Poin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opniowanie tekstu i graf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057400"/>
            <a:ext cx="3200400" cy="144792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 MS Power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żliwe jest stopniow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yświetlanie elementó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251460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4495680"/>
            <a:ext cx="3276720" cy="144792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ozwala widzowi lepiej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zrozumieć przedstawia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zagadnien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057400"/>
            <a:ext cx="3276360" cy="144792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prowadza to chronologi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 porządek w schemac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4800">
            <a:off x="6019560" y="380988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2590560" cy="235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kazy multimedi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981080"/>
            <a:ext cx="6095880" cy="259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14400" y="4952880"/>
            <a:ext cx="7238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y wzbogacają prezentacje i sprawiają, ż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je się ona bardziej interesują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Źródł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5791320"/>
            <a:ext cx="2143080" cy="399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2120" y="1905120"/>
            <a:ext cx="693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dobrej prezentacji powinna znaleźć się lista materiałów wykorzystywanych przy tworzeniu pokaz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3505320"/>
            <a:ext cx="769644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fgcu.edu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upport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/office2000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tip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http://www.mtholyoke.edu/lits/csit/documentation/building_webpages/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 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good_design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http:/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www.vulcan.edu.pl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/biblioteka/prezentacje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zasady_tworzeni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http:/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wwwzpt.tele.pw.edu.pl/~andrz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ej/TP/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22"/>
              </a:rPr>
              <a:t>wyklad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23"/>
              </a:rPr>
              <a:t>/pm1-zas_og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24"/>
              </a:rPr>
              <a:t>pomoc pakietu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dat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Point pozwala nam również na wstawianie slajdów z innych prezentacji. Jest to pomocne gdy prezentacje tworzy kilka osó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menu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Wsta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Slajdy z pliku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Przegląda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wybieramy prezentacje i slajdy które chcemy wstawić &gt;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Wsta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dat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werPoint pozwala na tworzenie slajdów z konspektów umieszczonych w edytorze tekstu. Elementy takiej listy musza mieć wcięcia utworzone przy pomocy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Ta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i nie mogą posiadać punktor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2200" spc="-1" strike="noStrike">
                <a:solidFill>
                  <a:srgbClr val="ffffff"/>
                </a:solidFill>
                <a:latin typeface="Times New Roman"/>
              </a:rPr>
              <a:t>( z menu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Wstaw</a:t>
            </a:r>
            <a:r>
              <a:rPr b="0" lang="pl-PL" sz="22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Slajdy z konspektu</a:t>
            </a:r>
            <a:r>
              <a:rPr b="0" lang="pl-PL" sz="2200" spc="-1" strike="noStrike">
                <a:solidFill>
                  <a:srgbClr val="ffffff"/>
                </a:solidFill>
                <a:latin typeface="Times New Roman"/>
              </a:rPr>
              <a:t> wybieramy odpowiedni dokument z konspektem, zostaną utworzone slajdy odpowiadające tytułom konspekt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dat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rząc wykres możemy importować dane z pliku MicrosoftExcel, wówczas wykres będzie aktualizowany przy każdej zmianie danych w plik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tworzymy wykres &gt; menu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dycj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mportuj plik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i wybieramy plik, arkusz i zakres komórek będących danymi dla wykresu w PowerPointc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dat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35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dczas pokazu wskaźnik myszy może służyć jako pióro, za pomocą którego możemy rysować po slajdzie, zaznaczając ważniejsze kwestie, obiekty takie znikają gdy tylko wyświetli się następny slaj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Podczas pokazu należy wcisnąć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Ctrl+P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– wskaźnik przyjmie postać pióra, aby wyłączyć pióro należy wcisnąć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Escap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aby wymazać obiekty narysowane należy wcisnąć klawisz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 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  kolor pióra wybieramy klikając prawy przyciskiem myszy i wybierając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pcje wskaźnik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Kolor piór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dat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zyciski akcji i hiperłącza mogą służyć do otwierania stron internetowych, arkuszy programu Excel, dokumentów programu Word i innych pl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 PowerPoint 2002 można też włączyć siatkę, dzięki której możemy rozmieszczać na slajdzie w precyzyjny sposó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Aby ukryć wskaźnik podczas prezentacji należy wcisnąć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Ctrl+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dat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PowerPoint2002 można zadbać o jednolitość prezentacji. Jeżeli Asystent pakiety Office jest włączony, gdy dany slajd nie jest zgodny z zasadami stylu wyświetla się żółta żarów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aby ustawić opcje stylu: z menu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Narzędzi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pcj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sownia i styl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&gt;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pcje stylu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i ustawiamy odpowiednie parametry stylu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Zakończ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905120"/>
            <a:ext cx="6933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 podsumowaniu dobrze jest zamieścić jaki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tat, sentencję lub hasł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endshow"/>
          </p:cNvPr>
          <p:cNvSpPr/>
          <p:nvPr/>
        </p:nvSpPr>
        <p:spPr>
          <a:xfrm>
            <a:off x="838080" y="5105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NIEC PREZENT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autoRev="1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0920" y="1828800"/>
            <a:ext cx="79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ebranie materiałów na temat tworzonej prezent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400" y="2514600"/>
            <a:ext cx="673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iza audytorium i ustalenie celu pokaz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120" y="3200400"/>
            <a:ext cx="810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pasowanie projektu do miejsca i czasu prezent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886200"/>
            <a:ext cx="77724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kreślenie planu, według którego będz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wadzona prezentac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zygotowanie do prezenta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ieprawidłowe zastosowanie kolor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7320" y="2362320"/>
            <a:ext cx="70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ajd kolorystycznie nie pasuje do prezent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3200400"/>
            <a:ext cx="576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Uw</a:t>
            </a: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aga widza skupia się na kolor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840" y="3962520"/>
            <a:ext cx="42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Tekst jest słabo widocz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8400" y="4724280"/>
            <a:ext cx="66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ły dobór kolorów dekoncentruje odbiorc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0834800">
            <a:off x="8077320" y="632376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ieprawidłowe zastosowanie czcion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1337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Monotype Corsiva"/>
              </a:rPr>
              <a:t>Nieczytelna czcio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000" y="2666880"/>
            <a:ext cx="45496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Źle dobrana wielkość czcionki, powoduje, że tek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est niewidoczny z dalszej odległoś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5160" y="3581280"/>
            <a:ext cx="8898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tosowan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jednym tekście kilku rodzajó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czcionek spraw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ze odbiorca nie może skupić si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informacji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 jest nieestetycz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0480" y="5181480"/>
            <a:ext cx="747252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CzĘsTe ZMianY 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ielkości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CZ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ci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nKI wprowadzaJ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l-PL" sz="3800" spc="-1" strike="noStrike">
                <a:solidFill>
                  <a:srgbClr val="ffffff"/>
                </a:solidFill>
                <a:latin typeface="Times New Roman"/>
              </a:rPr>
              <a:t>CHAO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0834800">
            <a:off x="8152920" y="647676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88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424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174"/>
                            </p:stCondLst>
                            <p:childTnLst>
                              <p:par>
                                <p:cTn id="29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Nieprawidłowe zastosowanie grafi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34800">
            <a:off x="8152920" y="647676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65600" cy="3047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886200" y="4495680"/>
            <a:ext cx="2819520" cy="2062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609480" y="4191120"/>
            <a:ext cx="2743200" cy="1819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2014560" cy="3124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4114800" y="914400"/>
            <a:ext cx="2452680" cy="3048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2133720"/>
            <a:ext cx="525780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fika nie jest związana tematycznie z prezentacją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menty graficzne są     nieprawidłowo rozmieszcz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kst jest nieczytelny,        ponieważ zachodzi na obrazki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600200"/>
            <a:ext cx="3581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zygotowując pokaz musimy pamiętać o umiejętnym dobraniu czasu prezentacji. Wykres obok przedstawia zależność czasu trwania prezentacji od uwagi jaką poświęca mu wid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zas prezenta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51280" y="1197000"/>
          <a:ext cx="483084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1197000"/>
                    <a:ext cx="483084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fektywność prezentac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181480" y="1752480"/>
          <a:ext cx="3424320" cy="195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752480"/>
                    <a:ext cx="34243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800600" y="3657600"/>
          <a:ext cx="3884760" cy="244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3657600"/>
                    <a:ext cx="388476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37184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86200"/>
            <a:ext cx="48765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ługość wykładu = 45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łuchacz może zapamięt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% inform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752480"/>
            <a:ext cx="45720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ługość wykładu = 15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łuchacz może zapamięta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0% inform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Zasady projektowania slajd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0200" y="1828800"/>
            <a:ext cx="546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żda plansza powinna mieć tytu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760" y="2438280"/>
            <a:ext cx="7677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y slajdy były czytelne, nie powinno być więce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ż 5-6 linijek teksu na slajdz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200" y="3505320"/>
            <a:ext cx="69314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kst powinien poskładać się z haseł, a nie 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zbudowanych akapit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3080" y="4648320"/>
            <a:ext cx="6766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leży pamiętać o tym, że odbiorca zwra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jwiększą  uwagę na górną część slajd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olorystyka projekt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8400" y="1828800"/>
            <a:ext cx="47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sekwentnie stosuj kol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840" y="2438280"/>
            <a:ext cx="7317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lorystyka i tło mają wspomagać  prezentacj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ie dominowa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3581280"/>
            <a:ext cx="72046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trast – podstawowa zasada przy dobierani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lorów  tekstu i tł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8400" y="4724280"/>
            <a:ext cx="74862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dpowiedni dobór kolorów sprzyja koncentracj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za.</a:t>
            </a:r>
            <a:r>
              <a:rPr b="0" lang="en-US" sz="28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15000"/>
            <a:ext cx="2666880" cy="38088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1118" h="21600">
                <a:moveTo>
                  <a:pt x="0" y="0"/>
                </a:moveTo>
                <a:lnTo>
                  <a:pt x="151118" y="0"/>
                </a:lnTo>
                <a:lnTo>
                  <a:pt x="151118" y="21600"/>
                </a:lnTo>
                <a:lnTo>
                  <a:pt x="0" y="21600"/>
                </a:lnTo>
                <a:close/>
              </a:path>
              <a:path fill="lightenLess" w="151118" h="21600">
                <a:moveTo>
                  <a:pt x="0" y="0"/>
                </a:moveTo>
                <a:lnTo>
                  <a:pt x="151118" y="0"/>
                </a:lnTo>
                <a:lnTo>
                  <a:pt x="149718" y="1400"/>
                </a:lnTo>
                <a:lnTo>
                  <a:pt x="1400" y="1400"/>
                </a:lnTo>
                <a:close/>
              </a:path>
              <a:path fill="darken" w="151118" h="21600">
                <a:moveTo>
                  <a:pt x="151118" y="0"/>
                </a:moveTo>
                <a:lnTo>
                  <a:pt x="151118" y="21600"/>
                </a:lnTo>
                <a:lnTo>
                  <a:pt x="149718" y="20200"/>
                </a:lnTo>
                <a:lnTo>
                  <a:pt x="149718" y="1400"/>
                </a:lnTo>
                <a:close/>
              </a:path>
              <a:path fill="darkenLess" w="151118" h="21600">
                <a:moveTo>
                  <a:pt x="151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18" y="20200"/>
                </a:lnTo>
                <a:close/>
              </a:path>
              <a:path fill="lighten" w="151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Zobacz kontr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dpowiedni dobór czcion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8040" y="1828800"/>
            <a:ext cx="80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suj czytelną czcionkę, bez zbędnych ozdobnik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7680" y="2514600"/>
            <a:ext cx="7920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dbaj, aby tekst i pozostałe elementy były czytel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 większej odległ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0560" y="3657600"/>
            <a:ext cx="7911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sekwentnie używaj 1, maksymalnie 2 rodzaj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zcion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400" y="4800600"/>
            <a:ext cx="7792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kaj zbyt częstych zmian wielkości czcionki –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prowadza chaos do projek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5791320"/>
            <a:ext cx="2666880" cy="38088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1118" h="21600">
                <a:moveTo>
                  <a:pt x="0" y="0"/>
                </a:moveTo>
                <a:lnTo>
                  <a:pt x="151118" y="0"/>
                </a:lnTo>
                <a:lnTo>
                  <a:pt x="151118" y="21600"/>
                </a:lnTo>
                <a:lnTo>
                  <a:pt x="0" y="21600"/>
                </a:lnTo>
                <a:close/>
              </a:path>
              <a:path fill="lightenLess" w="151118" h="21600">
                <a:moveTo>
                  <a:pt x="0" y="0"/>
                </a:moveTo>
                <a:lnTo>
                  <a:pt x="151118" y="0"/>
                </a:lnTo>
                <a:lnTo>
                  <a:pt x="149718" y="1400"/>
                </a:lnTo>
                <a:lnTo>
                  <a:pt x="1400" y="1400"/>
                </a:lnTo>
                <a:close/>
              </a:path>
              <a:path fill="darken" w="151118" h="21600">
                <a:moveTo>
                  <a:pt x="151118" y="0"/>
                </a:moveTo>
                <a:lnTo>
                  <a:pt x="151118" y="21600"/>
                </a:lnTo>
                <a:lnTo>
                  <a:pt x="149718" y="20200"/>
                </a:lnTo>
                <a:lnTo>
                  <a:pt x="149718" y="1400"/>
                </a:lnTo>
                <a:close/>
              </a:path>
              <a:path fill="darkenLess" w="151118" h="21600">
                <a:moveTo>
                  <a:pt x="151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18" y="20200"/>
                </a:lnTo>
                <a:close/>
              </a:path>
              <a:path fill="lighten" w="151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Zobacz kontr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160" y="2286000"/>
            <a:ext cx="46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ajd powinien być czytel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160" y="2971800"/>
            <a:ext cx="70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żdy slajd powinien mieć podobny schem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4240" y="365760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y nie mogą zachodzić na sieb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ozplanowanie elementów na slajdz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fik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133720"/>
            <a:ext cx="70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iekty  graficzne urozmaicają wygląd slajd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960" y="2819520"/>
            <a:ext cx="62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y graficzne muszą  być czytel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160" y="3429000"/>
            <a:ext cx="65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adaniem grafiki jest wspomaganie teks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0640" y="4114800"/>
            <a:ext cx="7948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ykorzystuj stopniowanie –tzn. wyświetlaj kolej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menty slajdu potrzebne do prezent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6386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Zobacz kontrprzykł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8153280" y="64771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3:00:05Z</dcterms:created>
  <dc:creator>Mateusz Wajdzik</dc:creator>
  <dc:description/>
  <dc:language>en-US</dc:language>
  <cp:lastModifiedBy>Katarzyna</cp:lastModifiedBy>
  <dcterms:modified xsi:type="dcterms:W3CDTF">2006-05-20T13:36:07Z</dcterms:modified>
  <cp:revision>29</cp:revision>
  <dc:subject/>
  <dc:title>Zasady tworzenia dobrych  prezentacji i pokaz możliwości            MSPower Pointa</dc:title>
</cp:coreProperties>
</file>