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850-713F-4DE8-97C0-2BE0389A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A85-770B-41E3-B94B-395EBCF0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335-E495-428F-B1F2-F213DD69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F11-5D37-45D7-A0D4-8F539BC5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EC5-3048-4B2A-A657-12B5B8F2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B1E-A42C-4B0D-9BEF-9B516C89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934-1DB9-4CBE-8EA4-87169BE1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ACE-A26C-4BE0-91A4-87482B40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2BA-36C0-4619-9E85-48E2A836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26D-D209-42FC-BB83-3E724042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439-B334-4D6F-83B6-47425EB5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C41-7D30-4F38-AB2B-68DB4D5F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DBD8-931F-42C7-93DC-B9A8BC00C3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je ulubione zwierzę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Żródł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kst na podstawie artykułów z Wikiped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a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Nadrzewne zwierzę roślinożerne, zamieszkujące wschodnią Australię.  Torbacz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Koala schodzi na ziemię tylko po to, by przejść na kolejne drzewo. Żyje samotnie lub w niewielkich grupach złożonych z samca i kilku sam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ala – d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miary: 60-85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aga: 8-15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iąża: 25 - 35 d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iczba młodych: 1 młode raz na 2 l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jrzałość płciowa: samce 3 - 4 lata, samice 2 - 3 l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ługość życia: 15 - 20 l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ruś -  gatunek dużego ptaka nielotnego z rodziny strusiowatych , zamieszkujący w zależności od podgatunku różne rejony Afry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a doskonały wzrok - widzi dobrze na odległość do 5 k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ś - d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 dłuższych dystansach biegają z prędkością 50 km/h, a w sprincie nawet 70 km/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gą żyć do 75 l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sokość: 1,7-2,5 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sa: 93-150 k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mice są nieco mniejsze od samc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a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uże, nawet do półtora kilograma, o objętości kilkudziesięciu kurzych ja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z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zon - największy obecnie ssak Ameryki Północn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 koniec XIX wieku stanął przed groźbą wyginięcia, obecnie około 20 tysięcy osobnik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zon - d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ługość : 2,1-3 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Masa ciała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450-1000 kg; największy osobnik ważył 1140 kg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Wysokość w kłębi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samica 1,6-1,8 m, samiec 1,8-2,0 m ; samice są (średnio) mniejsze od samców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Ubarwieni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brązowe; przednią część ciała okrywa gęsta sierść, tworząca coś w rodzaju "peleryny" i potęgująca wrażenie masywności zwierzęcia; młode osobniki są rudawe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Pożywienie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traw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Dojrzałość płciowa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ok. 3 roku życi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Rozród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Calibri"/>
              </a:rPr>
              <a:t>ciąża trwa około 9 miesięcy; po tym czasie na świat przychodzi zazwyczaj jeden cielak, który już po kilku godzinach dołącza z matką do stada; czas karmienia mlekiem 7-8 miesięc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nakonda - d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akondy są żyworodne - rodzą żywe młode, od 10 do 50 szt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ługość życia: nawet ponad 30 l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akonda zielona (Eunectes murinus), zamieszkująca dorzecza Amazonki i Orinoko, która może osiągać do 10 m długości, aczkolwiek dominują znacznie mniejsze osobniki, średnio 450-550 cm. Choć większe rozmiary osiąga pyton siatkowany, anakondy są znacznie cięższe i mogą osiągać nawet 250 kg wagi (jest to możliwe dzięki wodnemu środowisku - anakonda potrafi pływać z szybkością 20 km/godz. i trwać w zanurzeniu 20 minut), przy średnicy 30 cm i obwodzie 1 m - samice są wyraźnie większe od samc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nako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nakonda (Eunectes) - rodzaj węży z rodziny dusicieli, zamieszkujących bagna, mokradła i rzeki w gęstych lasach tropikalnych Ameryki Południowej. Węże ziemnowod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22:31:44Z</dcterms:created>
  <dc:creator>Magdalena</dc:creator>
  <dc:description/>
  <dc:language>en-US</dc:language>
  <cp:lastModifiedBy>Magdalena</cp:lastModifiedBy>
  <dcterms:modified xsi:type="dcterms:W3CDTF">2009-02-20T00:58:44Z</dcterms:modified>
  <cp:revision>15</cp:revision>
  <dc:subject/>
  <dc:title>Moje ulubione zwierzęta</dc:title>
</cp:coreProperties>
</file>