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DCF-94BC-4FDF-A813-FFD774D05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124-7AB9-4DE4-8EAA-5A05300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276-FCEE-404E-83E0-D6FC9DAD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5EC-924B-4121-ACB2-52E1B19C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E5636-D72A-4F62-B2E0-FDD452CBB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52985-5AA4-4F8C-ADAA-3F05B29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A7CCE-CE97-463A-BB3F-4EBB4A6B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957E0-870B-4BA9-9DCD-9B64A214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DD6B0-0FAE-49A2-AB2C-216FEC6F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E5C21-AE87-4A15-8480-9A4567E5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F5565-C87C-4E18-AC8C-FAB423B0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B66-DFBB-4165-9421-05F304E1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2146-059D-460A-9D55-1C27711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E0CA0-E08D-450C-BBD4-A61E6785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F34C6-5D29-4E0F-850C-887E7260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F6CE68-288F-4BDD-98F8-70F9B3F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7F58-8089-4057-8917-E5BA5DFFF8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8DF-412A-4C2A-89A6-E3020972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B5A-1E83-4F36-889F-58D28ED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01E-006F-4555-8621-F783125A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19280" y="274320"/>
            <a:ext cx="706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9D58-2A29-496E-86EB-60E22690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320-DD7D-4F4F-A7D6-27241E9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109-5CC4-4E78-8A7C-404D09A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784-01EC-4C4A-899B-4B131C30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2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50F-A23F-4C23-B739-1DF0E8CB1CD7}" type="datetime">
              <a:rPr b="0" i="1" lang="pl-PL" sz="1200" spc="-1" strike="noStrike">
                <a:solidFill>
                  <a:srgbClr val="e4005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200" spc="-1" strike="noStrike">
                <a:solidFill>
                  <a:srgbClr val="e400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Times New Roman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l-PL" sz="1200" spc="-1" strike="noStrike">
                <a:solidFill>
                  <a:srgbClr val="cc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3BDF-E91F-450D-9950-4E20E98CE548}" type="slidenum">
              <a:rPr b="0" i="1" lang="pl-PL" sz="1200" spc="-1" strike="noStrike">
                <a:solidFill>
                  <a:srgbClr val="cc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Pj04316960000[1]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90000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179280" y="1052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cc3300"/>
                </a:solidFill>
                <a:latin typeface="Arial"/>
              </a:rPr>
              <a:t>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1">
            <a:hlinkClick r:id="rId3" action="ppaction://hlinksldjump"/>
          </p:cNvPr>
          <p:cNvSpPr/>
          <p:nvPr/>
        </p:nvSpPr>
        <p:spPr>
          <a:xfrm>
            <a:off x="6227640" y="6308640"/>
            <a:ext cx="1657440" cy="287280"/>
          </a:xfrm>
          <a:custGeom>
            <a:avLst/>
            <a:gdLst>
              <a:gd name="textAreaLeft" fmla="*/ 18360 w 1657440"/>
              <a:gd name="textAreaRight" fmla="*/ 1639080 w 16574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124491" h="21600">
                <a:moveTo>
                  <a:pt x="0" y="0"/>
                </a:moveTo>
                <a:lnTo>
                  <a:pt x="124491" y="0"/>
                </a:lnTo>
                <a:lnTo>
                  <a:pt x="124491" y="21600"/>
                </a:lnTo>
                <a:lnTo>
                  <a:pt x="0" y="21600"/>
                </a:lnTo>
                <a:close/>
              </a:path>
              <a:path fill="lightenLess" w="124491" h="21600">
                <a:moveTo>
                  <a:pt x="0" y="0"/>
                </a:moveTo>
                <a:lnTo>
                  <a:pt x="124491" y="0"/>
                </a:lnTo>
                <a:lnTo>
                  <a:pt x="123091" y="1400"/>
                </a:lnTo>
                <a:lnTo>
                  <a:pt x="1400" y="1400"/>
                </a:lnTo>
                <a:close/>
              </a:path>
              <a:path fill="darken" w="124491" h="21600">
                <a:moveTo>
                  <a:pt x="124491" y="0"/>
                </a:moveTo>
                <a:lnTo>
                  <a:pt x="124491" y="21600"/>
                </a:lnTo>
                <a:lnTo>
                  <a:pt x="123091" y="20200"/>
                </a:lnTo>
                <a:lnTo>
                  <a:pt x="123091" y="1400"/>
                </a:lnTo>
                <a:close/>
              </a:path>
              <a:path fill="darkenLess" w="124491" h="21600">
                <a:moveTo>
                  <a:pt x="1244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091" y="20200"/>
                </a:lnTo>
                <a:close/>
              </a:path>
              <a:path fill="lighten" w="1244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ział ps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468360" y="508464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E55C-569E-4AF8-AB53-42CF9E471849}" type="datetime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1E55-F41E-4131-83DB-31A93066EF5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530A-D339-4012-A60E-F463A5151596}" type="datetime">
              <a:rPr b="0" lang="pl-PL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155D-EEF5-48E6-9F1C-D60C1863688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66"/>
                </a:solidFill>
                <a:latin typeface="Arial Black"/>
              </a:rPr>
              <a:t>Pies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5920" y="3571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Anty-prezentacj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MPj04316960000[1]"/>
          <p:cNvPicPr/>
          <p:nvPr/>
        </p:nvPicPr>
        <p:blipFill>
          <a:blip r:embed="rId2"/>
          <a:stretch/>
        </p:blipFill>
        <p:spPr>
          <a:xfrm>
            <a:off x="0" y="0"/>
            <a:ext cx="3575160" cy="2479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MPj04316960000[1]"/>
          <p:cNvPicPr/>
          <p:nvPr/>
        </p:nvPicPr>
        <p:blipFill>
          <a:blip r:embed="rId3"/>
          <a:stretch/>
        </p:blipFill>
        <p:spPr>
          <a:xfrm>
            <a:off x="5568840" y="0"/>
            <a:ext cx="3575160" cy="2479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Pj04316960000[1]"/>
          <p:cNvPicPr/>
          <p:nvPr/>
        </p:nvPicPr>
        <p:blipFill>
          <a:blip r:embed="rId4"/>
          <a:stretch/>
        </p:blipFill>
        <p:spPr>
          <a:xfrm>
            <a:off x="0" y="4378320"/>
            <a:ext cx="3575160" cy="2479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MPj04316960000[1]"/>
          <p:cNvPicPr/>
          <p:nvPr/>
        </p:nvPicPr>
        <p:blipFill>
          <a:blip r:embed="rId5"/>
          <a:stretch/>
        </p:blipFill>
        <p:spPr>
          <a:xfrm>
            <a:off x="5568840" y="4378320"/>
            <a:ext cx="3575160" cy="24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CEFF-6C3E-4B22-8855-CE2B1FC63F24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F5FA-0F8E-45F5-9F71-878ED971A4A7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myśliwski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Konkurs dzikarzy i tropowców Przechlewko maj 200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9006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e90062"/>
                </a:solidFill>
                <a:latin typeface="Arial Black"/>
              </a:rPr>
              <a:t>Gończy polsk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349"/>
              </a:spcBef>
              <a:buClr>
                <a:srgbClr val="e9006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90062"/>
                </a:solidFill>
                <a:latin typeface="Arial Black"/>
              </a:rPr>
              <a:t>Gończy polski jest psem średniej wielkości, o lekkiej, zwartej, ale i jednocześnie sprężystej budowie ciała, świadczącej o jego dużej ruchliwości, zwinności i odporności na trudy wielogodzinnych polowań w różnych warunkach terenowych i pogodowych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971640" y="3767040"/>
            <a:ext cx="3173400" cy="21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5143680" y="4316400"/>
            <a:ext cx="3384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D558-CA2A-43B7-A54F-9486D6C37D28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C0B-6BB0-472F-84BE-4F9F4ACF0615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 u="sng">
                <a:solidFill>
                  <a:srgbClr val="ffff99"/>
                </a:solidFill>
                <a:uFillTx/>
                <a:latin typeface="Arial Black"/>
              </a:rPr>
              <a:t>Psy ratownicz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Nowofundlan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2948040" y="2224080"/>
            <a:ext cx="61959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A670-DE44-429F-A7A5-1A38E9CCF133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7009-7D24-4485-9339-1FFAC4DF2947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pasterski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Koolie pracujący z owcam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Pies pasterski wraz ze stadem i właściciele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116000" y="2997360"/>
            <a:ext cx="2627280" cy="32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5364000" y="3068640"/>
            <a:ext cx="21560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FAD8-22DB-4548-B23E-97E4647F07F2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DAF9-8AB7-40B8-95F8-7F642733830C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00"/>
                </a:solidFill>
                <a:latin typeface="Arial Black"/>
              </a:rPr>
              <a:t>Psy stróżujące </a:t>
            </a:r>
            <a:r>
              <a:rPr b="0" lang="pl-PL" sz="4000" spc="-1" strike="noStrike">
                <a:solidFill>
                  <a:srgbClr val="ffff00"/>
                </a:solidFill>
                <a:latin typeface="Arial Black"/>
              </a:rPr>
              <a:t>(obronne)</a:t>
            </a:r>
            <a:endParaRPr b="0" lang="en-US" sz="40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Arial Black"/>
              </a:rPr>
              <a:t>Mastif tybetański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780000" y="2438280"/>
            <a:ext cx="4940280" cy="37148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BB9-8E09-46FE-8314-C77FBE9A8D48}" type="datetime">
              <a:rPr b="0" i="1" lang="pl-PL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Arial Black"/>
              </a:rPr>
              <a:t>Psy służbowe</a:t>
            </a:r>
            <a:r>
              <a:rPr b="0" lang="pl-PL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 Black"/>
              </a:rPr>
              <a:t>Czarny terier - Psy tej rasy są odważne, pewne siebie, silne, nieufne wobec obcych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4968720" y="2714760"/>
            <a:ext cx="4175280" cy="3890880"/>
          </a:xfrm>
          <a:prstGeom prst="rect">
            <a:avLst/>
          </a:prstGeom>
          <a:ln w="0">
            <a:noFill/>
          </a:ln>
        </p:spPr>
      </p:pic>
      <p:sp>
        <p:nvSpPr>
          <p:cNvPr id="178" name="Prostokąt 7"/>
          <p:cNvSpPr/>
          <p:nvPr/>
        </p:nvSpPr>
        <p:spPr>
          <a:xfrm>
            <a:off x="-285840" y="1071720"/>
            <a:ext cx="9429840" cy="57132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00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1BBA-7CED-49AD-B4F1-A8EB37EC39D2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F437-8934-41C8-9DC8-48B437F0416F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służbowe (c.d.)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4895640" cy="371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3EC-4069-4466-999B-3E39F95767D7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9D5F-5DC8-4F75-AE97-F4A983E76267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zaprzęgow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Siberian husk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3564000" y="2401920"/>
            <a:ext cx="511164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BF84-2B2B-4F7A-9FD7-20B9A9107C7D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08D2-C741-48EC-850E-AD0C749DB249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wyścigow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Greyhound – należy do grupy chartó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4284720" y="2852640"/>
            <a:ext cx="431964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3315-50C1-4CB6-88BA-2CAD07A2D8EB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96DD-A06E-43F6-A349-C3DF2DB0ACBE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reprezentacyjn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Pud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3924360" y="2138400"/>
            <a:ext cx="48243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43CE-9A37-4F68-94DF-5A6741D74841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C9E-E212-4FC7-AF64-3AD1ABAAEA51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sy wiejskie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Hovawa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851280" y="2178000"/>
            <a:ext cx="4897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ymbol zastępczy daty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700-D611-42FA-98AC-AA824C0E32FF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ymbol zastępczy stopki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D483-D100-4930-9F57-F46D00AE21DD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바탕"/>
                <a:ea typeface="바탕"/>
              </a:rPr>
              <a:t>O psach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17bbfd"/>
                </a:solidFill>
                <a:uFillTx/>
                <a:latin typeface="Comic Sans MS"/>
                <a:hlinkClick r:id="rId1" action="ppaction://hlinksldjump"/>
              </a:rPr>
              <a:t>Pies domow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17bbfd"/>
                </a:solidFill>
                <a:uFillTx/>
                <a:latin typeface="Arial Black"/>
                <a:hlinkClick r:id="rId2" action="ppaction://hlinksldjump"/>
              </a:rPr>
              <a:t>Wiek p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17bbfd"/>
                </a:solidFill>
                <a:uFillTx/>
                <a:latin typeface="Calibri"/>
                <a:ea typeface="Times New Roman"/>
                <a:hlinkClick r:id="rId3" action="ppaction://hlinksldjump"/>
              </a:rPr>
              <a:t>Udomowienie ps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5DE0-675E-4878-B417-A4F71B7AD968}" type="datetime">
              <a:rPr b="0" lang="pl-PL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E216-D699-41DC-B4D4-A3995B81D1F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66"/>
                </a:solidFill>
                <a:latin typeface="Arial Black"/>
              </a:rPr>
              <a:t>Dziękuję za uwagę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FADE-DD6E-4692-97F9-9D2FF5FBFB51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7D89-9092-4378-AA70-9F2C6D1F89D0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Arial Black"/>
              </a:rPr>
              <a:t>Pies domowy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Drapieżny ssak z rodziny psowatych, udomowiony przez człowieka potomek wilka szarego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arol Linneusz opisał naukowo psa w 1758 pod nazwą Canis familiaris Linnaeus, 1758. W tej samej pracy Linneusz opisał wilka pod nazwą Canis lupus. Kiedy uzgodniono, że pies prawdopodobnie pochodzi od wilka nazwa systematyczna (naukowa) psa została zmieniona zgodnie z zasadami nomenklatury zoologicznej na Canis lupus f. familiaris – czyli forma domowa wilka, w skrócie C. l. familiaris. Ze względu na powszechność stosowania pierwszej nazwy, jaką nadał psu Linneusz – Canis familiaris, w 2003 r. Międzynarodowa Komisja Nomenklatury Zoologicznej dopuściła stosowanie obydwu nazw jako poprawnych nazw naukowych[1]. Zarówno Canis familiaris, jak i Canis lupus familiaris są poprawnymi nazwami systematycznymi psa domowego. W przypadku tej drugiej nazwy należy pamiętać, że w drodze wyjątku nie jest to trynominalna nazwa podgatunku, lecz uproszczony zapis nazwy formy udomowionej Canis lupus f. familiaris. Pies domowy nie jest podgatunkiem wilka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pies_11027_070615135023"/>
          <p:cNvPicPr/>
          <p:nvPr/>
        </p:nvPicPr>
        <p:blipFill>
          <a:blip r:embed="rId1"/>
          <a:stretch/>
        </p:blipFill>
        <p:spPr>
          <a:xfrm>
            <a:off x="5853240" y="1500120"/>
            <a:ext cx="276228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3A16-7365-4A08-ADB2-8EEDA9B82785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8931-E032-49A4-8BCF-9C0374B8D202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b0f0"/>
                </a:solidFill>
                <a:latin typeface="Comic Sans MS"/>
              </a:rPr>
              <a:t>Wiek psa</a:t>
            </a:r>
            <a:endParaRPr b="0" lang="en-US" sz="5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OKREŚLENIA WIEKU U PSA M.IN. DOKONUJE SIĘ PO OGLĘDZINACH STANU UZĘBIENIA ORAZ ILOŚCI SIWYCH WŁOSÓW NA GŁOWI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pies_10764_070612210711"/>
          <p:cNvPicPr/>
          <p:nvPr/>
        </p:nvPicPr>
        <p:blipFill>
          <a:blip r:embed="rId1"/>
          <a:stretch/>
        </p:blipFill>
        <p:spPr>
          <a:xfrm>
            <a:off x="4648320" y="2463840"/>
            <a:ext cx="4038480" cy="2797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pies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człowie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6 m-cy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0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0 m-cy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4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2 m-cy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5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8 m-cy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20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2 lata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24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3 lata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28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4 lata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32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5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36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6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40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pies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człowiek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7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44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8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48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9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52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0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56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1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60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2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64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3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68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4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72 la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15 lat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 Black"/>
              </a:rPr>
              <a:t>76 l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40D5-C08E-4569-9CBB-B2C9A0A04D00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1B39-2B01-471C-89DB-1772B5F9F42C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B877-85FC-47DF-AE50-F7ED7DAE3882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0F89-05ED-462C-B554-9EB25CABFEBE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Udomowienie psa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714920" y="4357440"/>
            <a:ext cx="40384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Początki udomowienia psa szacuje się na ok. 17-12 tys. lat, był on używany przez myśliwych z Syberii, pojawia się też w Palestynie oraz w Iraku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Black"/>
              </a:rPr>
              <a:t>Tesem</a:t>
            </a: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, egipska rasa psa uważanego za przodka wszystkich chartów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571920" y="1285920"/>
            <a:ext cx="3743280" cy="288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357120" y="1571760"/>
            <a:ext cx="3156120" cy="2576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4"/>
          <a:stretch/>
        </p:blipFill>
        <p:spPr>
          <a:xfrm>
            <a:off x="2357280" y="428616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714240" y="4643280"/>
            <a:ext cx="1405080" cy="9842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ymbol zastępczy daty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122-E2E8-4992-B567-87C141011C3B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ymbol zastępczy stopki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1DDB-9B43-46AB-8DBA-EA152547CF9B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66"/>
                </a:solidFill>
                <a:latin typeface="Arial Black"/>
              </a:rPr>
              <a:t>Podział psów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17bbfd"/>
                </a:solidFill>
                <a:uFillTx/>
                <a:latin typeface="Arial Black"/>
                <a:hlinkClick r:id="rId2" action="ppaction://hlinksldjump"/>
              </a:rPr>
              <a:t>Pies nierasow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17bbfd"/>
                </a:solidFill>
                <a:uFillTx/>
                <a:latin typeface="Arial Black"/>
                <a:hlinkClick r:id="rId3" action="ppaction://hlinksldjump"/>
              </a:rPr>
              <a:t>Psy myśliwski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ratownicz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pasterski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stróżujące (obronne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służbow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służbow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zaprzęgow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ymbol zastępczy daty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6B2E-6890-4878-8CFF-85A894FC0164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ymbol zastępczy stopki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859A-33F9-43DE-AD1C-096DD9DEE6E7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666666"/>
                </a:solidFill>
                <a:latin typeface="Arial Black"/>
              </a:rPr>
              <a:t>Podział psów (c.d.)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wyścigow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reprezentacyjn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Psy wiejski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daty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717D-2A41-4F7D-B01C-82005A1799A8}" type="datetime">
              <a:rPr b="0" i="1" lang="pl-PL" sz="1200" spc="-1" strike="noStrike">
                <a:solidFill>
                  <a:srgbClr val="e4005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ymbol zastępczy stopki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e40059"/>
                </a:solidFill>
                <a:latin typeface="Arial"/>
              </a:rPr>
              <a:t>Wszystko o ps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ymbol zastępczy numeru slajdu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B99-ED40-4E96-80C2-89179AD4C619}" type="slidenum">
              <a:rPr b="0" i="1" lang="pl-PL" sz="12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666666"/>
                </a:solidFill>
                <a:latin typeface="Arial Black"/>
              </a:rPr>
              <a:t>Pies nierasowy</a:t>
            </a:r>
            <a:endParaRPr b="0" lang="en-US" sz="4400" spc="-1" strike="noStrike">
              <a:solidFill>
                <a:srgbClr val="66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8584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Arial Black"/>
              </a:rPr>
              <a:t>W latach 50. </a:t>
            </a: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prowadzone badania w </a:t>
            </a:r>
            <a:r>
              <a:rPr b="0" lang="pl-PL" sz="2400" spc="-1" strike="noStrike">
                <a:solidFill>
                  <a:srgbClr val="7030a0"/>
                </a:solidFill>
                <a:latin typeface="Arial Black"/>
              </a:rPr>
              <a:t>Stanach Zjednoczonych </a:t>
            </a: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oraz Szwajcarii potwierdziły, że z całej populacji psów występujących w tych krajach tylko </a:t>
            </a:r>
            <a:r>
              <a:rPr b="0" lang="pl-PL" sz="3200" spc="-1" strike="noStrike">
                <a:solidFill>
                  <a:srgbClr val="000000"/>
                </a:solidFill>
                <a:latin typeface="Arial Black"/>
              </a:rPr>
              <a:t>25% </a:t>
            </a: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stanowią </a:t>
            </a:r>
            <a:r>
              <a:rPr b="0" lang="pl-PL" sz="2400" spc="-1" strike="noStrike">
                <a:solidFill>
                  <a:srgbClr val="ffff00"/>
                </a:solidFill>
                <a:latin typeface="Arial Black"/>
              </a:rPr>
              <a:t>psy rasowe</a:t>
            </a:r>
            <a:r>
              <a:rPr b="0" lang="pl-PL" sz="2400" spc="-1" strike="noStrike">
                <a:solidFill>
                  <a:srgbClr val="000000"/>
                </a:solidFill>
                <a:latin typeface="Arial Black"/>
              </a:rPr>
              <a:t>, pozostała część to w różnej proporcji 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mieszań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345600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639 -0.31366 C 0.00851 -0.24491 -0.10938 -0.17593 -0.1151 -0.08195 C -0.12083 0.01203 0.13264 0.14953 0.09253 0.25046 C 0.05243 0.35139 -0.26962 0.55833 -0.35521 0.52315 C -0.4408 0.48796 -0.47361 0.18125 -0.42135 0.03912 C -0.3691 -0.10301 -0.00521 -0.27547 -0.04132 -0.3301 C -0.07743 -0.38473 -0.51771 -0.4338 -0.63819 -0.28912 C -0.75868 -0.14445 -0.76163 0.19652 -0.76441 0.53773 E">
                                      <p:cBhvr>
                                        <p:cTn id="252" dur="2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09:35:19Z</dcterms:created>
  <dc:creator>brzezim1</dc:creator>
  <dc:description/>
  <dc:language>en-US</dc:language>
  <cp:lastModifiedBy>Magdalena</cp:lastModifiedBy>
  <dcterms:modified xsi:type="dcterms:W3CDTF">2008-12-12T03:05:21Z</dcterms:modified>
  <cp:revision>11</cp:revision>
  <dc:subject/>
  <dc:title>Slajd 1</dc:title>
</cp:coreProperties>
</file>